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73D-6E8F-420A-983A-49EE04E9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F27-C7D8-4B8C-B3E9-851684E0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6D44-F92A-4073-86F3-C9EE39A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EDEA1-88D8-41A6-8542-D786909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D0698-ECC5-4F44-8490-6E088C5F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9CC7C-BC75-4E26-83DF-8681585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FEC92-CA91-47C2-BE07-196E227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5EDF7-D0C2-4EF1-8887-8A38D8D3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BA1DE-2AEE-4F98-8A4B-103E4B7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14DEF-3E94-46D6-975C-ABD55AED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8F5DB-13B9-42F5-B6E6-FF2D1C0B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8C571-F893-4F10-8A9C-E8AB8F44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E59-B189-4052-AC97-F888DF38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F2A8A-E2FD-4379-A282-CC36BDE8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FC6A5-E952-4631-9E73-A6C647F3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70245-1E41-41D2-850F-EAEAFE1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7965F-B5FB-4CC0-AFB7-E1B55E82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59854-E106-4463-BFF1-B76C8FA9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C4B35-3A25-4988-BD23-932B672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CD6C2-2EE0-447E-9D19-C6DE7F18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B5186-41CD-4CE6-AF39-B6313F7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4EC73-CD13-4401-A506-C261A2B9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2285-4572-4135-A670-E0F3140C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FAA-5415-4A38-9779-63C3DCB2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A6043-E0CD-47A0-ABB2-4FF2F1F3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B860-435B-4324-AAB1-95ADE5FE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F3E38-15F1-4ED0-819E-A288525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C1D11-1722-408E-96EE-D05B3860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05D47-660B-4B3E-9BF1-8C17CB3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62B06-0022-437B-871A-72C6726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AAFF6-8C5E-46BB-A98B-808CE0D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AE786-8220-4BA1-9019-B1151A4E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840A3-603B-47AD-B303-1DCC4551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63D55-3E1A-4FEE-BF60-69C09AD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1202-06C6-41FA-8BCE-1D116DA3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9ADC1-EB90-439F-85CF-6B934381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1506C-113D-4AC1-B727-3A131B6F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AD84F-14E8-4373-9B54-68C4E971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C4B3-060D-4D67-8A80-45D755F2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86EF3-F468-4DAB-90DD-872B2D45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01D87-0CAA-4CFD-AD60-A14B211C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2BFFA-1F0C-4923-9F96-6BF67D48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8C8D-AAEB-4BFF-8C2E-09EDB5AE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F651A-2C40-4902-B2BA-0D2826D1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8E1DB-9FED-4A99-800D-06DE2BA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EF7-6CAC-4DF2-81BD-44EFE085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A7F56-9827-443E-9263-B1001A3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78206-2FD3-4429-8825-CD856411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AC1DB-F59F-4251-8E76-98220EC9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BD934-6BF9-439E-A8E9-2A5CA6CD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905A8-8499-4B36-9176-53D41711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88D-1380-43B6-AA50-1352413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BD4D-4345-4102-9BA3-9B50487B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F63-A98F-48B0-8BC3-9F0060F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8B18-0C71-46A6-8574-7E8BEBE5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904-D660-4DAB-BD74-D264141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8AD-B710-4E8F-89AE-B9518C4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767D-873F-4C76-9C1A-3361A74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521D-B266-465A-9781-74347FA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2B8-355F-43CC-86A5-F58EEDF7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1395-4DBA-42CF-A094-EA7BA9CD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310E-3177-49EC-BFAD-0F9A71A9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DC3C-DA50-4310-B374-14498D13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896D-2083-44AD-88EA-9C126569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622A-0F85-4B78-B4AE-88E3130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B7E1-2704-4CE0-8DA2-8E9942C9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3056-70B4-43F3-9418-B2461933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ED0-7F7B-429C-94FB-F4669345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4A28-26AC-48FE-9937-9F530F3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6172D-E223-42D7-928C-CCE283E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0B48-11F5-437F-83A5-0E5C417D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A6C7-85C2-4805-96DA-259C944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BC5A-2D59-4A39-8089-160C4B45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A8E7-3D8F-4E00-A0A0-6D023092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2EC2-3CBE-4FB9-A88E-3C7F43A8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28DE-D2A0-4FDE-B13C-9D634075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5244-07A8-4552-AA4D-B051821D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749F-F38E-4579-AEFB-E908D3F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EE4-AD40-4952-8D48-1A40DFCB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6FB59-32B1-45D1-99DC-4252E027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9DDD-0900-4868-8ADE-BAA70D9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D4FC-50F2-4B1F-A9EA-6563CA30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9BB4-723B-4CAF-8ADC-24486349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1CD3-562C-49D9-8918-CB750BB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0B05-06A7-4C2D-9B71-54D53C40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9419-9F5E-4EF4-B796-8384190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6FAE6-2B02-4644-8829-81AD9F5E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C0DC-B1E1-4202-8D53-AEFEB04F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AE1A-438E-46D2-A0D7-A6E33C33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312-A060-4486-8836-DB9D6973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BF2F-8D80-4BDC-A94E-B3B99FF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BE206-0C50-4FEF-B4B5-22283E53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15A8-C844-4537-BB22-FB265409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3A12B-CABB-4DD4-B653-C3F5FC5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CEBC4-1E26-4B06-97F8-5A45A125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FB17-CC10-49FB-99A4-8620A2EB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E69D-3265-43A8-B351-815C294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4C401-1426-42A7-BCB4-5774D09F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821E-B11E-45AB-B9A4-A88FA49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DB0F4-B26B-443D-B441-0338B44A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A8A-9C30-4614-BC8F-09637747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9047-EF33-4A17-8FBB-F27D5861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4F7B-46DE-4339-B09D-3A3B8638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AAD2-525F-4543-99BB-C9A79280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54E22-E7A0-45D8-93FC-0349F2A2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C909-0EB1-4A61-9949-D67405F6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A178F-0B09-486F-AAC0-91258F9A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1A3D-9ECB-42EA-9E1F-947DE079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7839-B87B-4619-811F-8347406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FB1D-509A-43E5-844B-02BD274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9EB98-8792-4F17-BFEC-4A99ED96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F0C-2144-4A07-9C07-84CE763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03CC-85A2-475F-A7FC-6A5FB76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D0A0-F1FA-44AC-B9FC-E753D380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CA77-5621-4FE1-BA56-BC01CF98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6B6A-0BB6-4F7A-822D-B49B07D4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28684-1363-4681-AD70-1D10C4A5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DC0B1-5D6E-47DF-B9D1-6E1DEA20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D5A3-4D8A-43B5-B204-70D6F77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273B4-479E-46A8-A639-667E6EE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F8B13-61AC-406D-8A77-D47BF975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9D0C-D879-47F0-BAA4-4C16F414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F91-932A-4F3B-8C12-C24B8B7E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C037-51F7-4DB7-A3A3-063B09B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3B9A-E1E0-4B39-896F-4677B66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ED690-7429-4E6D-B6F0-AF730707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6F23D-60F5-4A2F-BAED-3B57FF34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9E96-36FB-4260-A2A7-DF97A9A6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1DDE-AB7A-426A-B010-D93B41F8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660B7-AB65-483F-82DD-5D22B21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0221-20E5-4645-9D85-6D7C61E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FD328-612C-46AE-8F74-1326C954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F29B3-DF5D-4376-885F-96753EDB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D75-A77D-4C18-AFAF-4D5DA71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3FFEF-78D3-47F8-B139-F70E573E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33CF-BEB6-404D-9805-7E6799E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EAF4B-F256-4D72-879A-8A3A92A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DC1FC-E644-46BF-8662-5EE13D3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40C28-7139-459A-8AE6-9564C735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BB63-33D0-4DE4-A67B-242235DA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ABE88-3C8B-4532-B402-8C4A3532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A88FD-A6E2-4FCD-B712-9448DFFB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6F23B-A195-445D-BE16-D35DC16A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F3962-FA84-4466-B6D2-54B1D2DD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CF38-8FDA-451B-B0C6-46DB19F7B67F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730A-ADEF-4B85-85D7-6FB8D49540D9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5568-DAD0-4B31-B1C2-6D63AA241C41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D16C-0D94-48C4-9C87-C107548C3867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010A-F62D-4A8A-9058-A747966C28AC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9FD-437F-4FA0-82E0-3BE555E02486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457-91AF-456A-8E07-15444AC9E9AB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F1C-1AC7-4010-91C5-1254A09CABE8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295-B867-4800-AF7C-0045273180BD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FDD-89FB-43C6-8AD5-40E516EF3EB4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2368-D521-4420-9014-2D5F982FE6C5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883D-D339-4E24-9504-C31FE33BFD98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ptos Display"/>
              </a:rPr>
              <a:t>Komponenta prijem-f5.ppt</a:t>
            </a:r>
            <a:endParaRPr b="0" lang="en-US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Testovací komponenta Atestačního středis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Česká agentura pro standardizaci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18T07:19:45Z</dcterms:created>
  <dc:creator>Tomáš Bezouška</dc:creator>
  <dc:description/>
  <dc:language>en-US</dc:language>
  <cp:lastModifiedBy>Tomáš Bezouška</cp:lastModifiedBy>
  <dcterms:modified xsi:type="dcterms:W3CDTF">2025-06-18T07:20:32Z</dcterms:modified>
  <cp:revision>1</cp:revision>
  <dc:subject/>
  <dc:title/>
</cp:coreProperties>
</file>